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33.wmf" ContentType="image/x-wmf"/>
  <Override PartName="/ppt/media/image10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.png" ContentType="image/png"/>
  <Override PartName="/ppt/media/image31.wmf" ContentType="image/x-wmf"/>
  <Override PartName="/ppt/media/image43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B01-A9C0-4091-AC02-230014CE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BD3-7028-470F-BA06-D741BB07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87E-5F2E-4805-ACDB-4365A3BF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AE3-FBD4-42EB-A0A6-5D610BEE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D90-3FA3-408C-8A38-81D3EA87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AC8-1ECC-43E6-A035-AE4A7F46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EAE-EBF4-4CF7-ACC1-35F86398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C09-DC33-4411-9057-37EC041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3F6-3001-4380-AAEA-2832B887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83D-B22D-41CE-A332-A0B0648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AFC-B26B-4175-8A4F-0747ACA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8DD-CDDD-4151-92CE-949C922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29A0-E804-491A-BAF6-41461A66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6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4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28560" y="673200"/>
            <a:ext cx="720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Times New Roman"/>
              </a:rPr>
              <a:t>Trig Function  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00280"/>
            <a:ext cx="3673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99"/>
                </a:solidFill>
                <a:latin typeface="Times New Roman"/>
              </a:rPr>
              <a:t>The Derivatives of sin x &amp; 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2"/>
          <p:cNvGraphicFramePr/>
          <p:nvPr/>
        </p:nvGraphicFramePr>
        <p:xfrm>
          <a:off x="1835280" y="3357720"/>
          <a:ext cx="5827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5827680" cy="8143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3EE5-F452-4EB6-90AE-BFDB528490CC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ShockwaveFlash1"/>
          <p:cNvGraphicFramePr/>
          <p:nvPr/>
        </p:nvGraphicFramePr>
        <p:xfrm>
          <a:off x="324000" y="907920"/>
          <a:ext cx="8635680" cy="50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635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635680" cy="507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3A4C-777A-4A97-803C-8B22E9BA10D2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ShockwaveFlash1"/>
          <p:cNvGraphicFramePr/>
          <p:nvPr/>
        </p:nvGraphicFramePr>
        <p:xfrm>
          <a:off x="324000" y="907920"/>
          <a:ext cx="8635680" cy="50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907920"/>
                    <a:ext cx="8635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63568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77164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Times New Roman"/>
              </a:rPr>
              <a:t>The derivative of cos </a:t>
            </a:r>
            <a:r>
              <a:rPr b="1" i="1" lang="en-GB" sz="2000" spc="-1" strike="noStrike">
                <a:solidFill>
                  <a:srgbClr val="cc00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500A-4FBA-4B5D-B67B-33E4518A1637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476360" y="692280"/>
            <a:ext cx="6153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1700280"/>
            <a:ext cx="820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differentiate composite functions                       (such as functions with brackets in them)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11"/>
          <p:cNvGraphicFramePr/>
          <p:nvPr/>
        </p:nvGraphicFramePr>
        <p:xfrm>
          <a:off x="3340080" y="2795760"/>
          <a:ext cx="226368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0080" y="2795760"/>
                    <a:ext cx="2263680" cy="849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Text Box 10"/>
          <p:cNvSpPr/>
          <p:nvPr/>
        </p:nvSpPr>
        <p:spPr>
          <a:xfrm>
            <a:off x="1044720" y="38242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2581200" y="3903840"/>
          <a:ext cx="303552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1200" y="3903840"/>
                    <a:ext cx="303552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1087560" y="4608360"/>
          <a:ext cx="193032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87560" y="4608360"/>
                    <a:ext cx="193032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" name="Object 4"/>
          <p:cNvGraphicFramePr/>
          <p:nvPr/>
        </p:nvGraphicFramePr>
        <p:xfrm>
          <a:off x="4616280" y="4586400"/>
          <a:ext cx="1524240" cy="34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16280" y="4586400"/>
                    <a:ext cx="152424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4616280" y="5203800"/>
          <a:ext cx="116856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16280" y="5203800"/>
                    <a:ext cx="116856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Object 6"/>
          <p:cNvGraphicFramePr/>
          <p:nvPr/>
        </p:nvGraphicFramePr>
        <p:xfrm>
          <a:off x="1087560" y="5154480"/>
          <a:ext cx="1066680" cy="60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87560" y="5154480"/>
                    <a:ext cx="106668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Object 7"/>
          <p:cNvGraphicFramePr/>
          <p:nvPr/>
        </p:nvGraphicFramePr>
        <p:xfrm>
          <a:off x="1087560" y="5965920"/>
          <a:ext cx="181584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87560" y="5965920"/>
                    <a:ext cx="18158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" name="Object 8"/>
          <p:cNvGraphicFramePr/>
          <p:nvPr/>
        </p:nvGraphicFramePr>
        <p:xfrm>
          <a:off x="2992320" y="6089760"/>
          <a:ext cx="1443240" cy="325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92320" y="6089760"/>
                    <a:ext cx="1443240" cy="325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4616280" y="6086520"/>
          <a:ext cx="1765440" cy="34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16280" y="6086520"/>
                    <a:ext cx="176544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0" name="Object 10"/>
          <p:cNvGraphicFramePr/>
          <p:nvPr/>
        </p:nvGraphicFramePr>
        <p:xfrm>
          <a:off x="6738840" y="5986440"/>
          <a:ext cx="2019240" cy="609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1" name="Object 1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38840" y="5986440"/>
                    <a:ext cx="2019240" cy="609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771480" y="515880"/>
            <a:ext cx="6786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br>
              <a:rPr sz="2800"/>
            </a:b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ri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61840" y="1895400"/>
            <a:ext cx="7782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Trig functions can be differentiated                   using the same chain rule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0"/>
          <p:cNvGraphicFramePr/>
          <p:nvPr/>
        </p:nvGraphicFramePr>
        <p:xfrm>
          <a:off x="3948120" y="3000240"/>
          <a:ext cx="162576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8120" y="3000240"/>
                    <a:ext cx="162576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Text Box 9"/>
          <p:cNvSpPr/>
          <p:nvPr/>
        </p:nvSpPr>
        <p:spPr>
          <a:xfrm>
            <a:off x="1138320" y="3819600"/>
            <a:ext cx="2811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Worked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4064040" y="3951360"/>
          <a:ext cx="276840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4040" y="3951360"/>
                    <a:ext cx="276840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1247760" y="4527720"/>
          <a:ext cx="1434960" cy="25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47760" y="4527720"/>
                    <a:ext cx="1434960" cy="253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4516560" y="4535640"/>
          <a:ext cx="1841400" cy="30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6560" y="4535640"/>
                    <a:ext cx="184140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1247760" y="4973760"/>
          <a:ext cx="93996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47760" y="4973760"/>
                    <a:ext cx="93996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4516560" y="4973760"/>
          <a:ext cx="130788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16560" y="4973760"/>
                    <a:ext cx="13078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1247760" y="5896080"/>
          <a:ext cx="181620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47760" y="5896080"/>
                    <a:ext cx="1816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3257640" y="6060960"/>
          <a:ext cx="1295280" cy="24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57640" y="6060960"/>
                    <a:ext cx="1295280" cy="241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4719600" y="5894280"/>
          <a:ext cx="1752480" cy="609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19600" y="5894280"/>
                    <a:ext cx="1752480" cy="6098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-42840" y="642960"/>
            <a:ext cx="8569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00280" y="1347840"/>
            <a:ext cx="194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2709720" y="2127240"/>
          <a:ext cx="397512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9720" y="2127240"/>
                    <a:ext cx="3975120" cy="800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1049400" y="3327480"/>
          <a:ext cx="193032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9400" y="3327480"/>
                    <a:ext cx="193032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Object 4"/>
          <p:cNvGraphicFramePr/>
          <p:nvPr/>
        </p:nvGraphicFramePr>
        <p:xfrm>
          <a:off x="5465880" y="3284640"/>
          <a:ext cx="214632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5880" y="3284640"/>
                    <a:ext cx="214632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5465880" y="3876840"/>
          <a:ext cx="152388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65880" y="3876840"/>
                    <a:ext cx="15238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Object 6"/>
          <p:cNvGraphicFramePr/>
          <p:nvPr/>
        </p:nvGraphicFramePr>
        <p:xfrm>
          <a:off x="1049400" y="3905280"/>
          <a:ext cx="106668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49400" y="3905280"/>
                    <a:ext cx="10666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3124080" y="5072040"/>
          <a:ext cx="1992600" cy="352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5072040"/>
                    <a:ext cx="1992600" cy="352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5465880" y="5076720"/>
          <a:ext cx="227304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65880" y="5076720"/>
                    <a:ext cx="227304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Object 9"/>
          <p:cNvGraphicFramePr/>
          <p:nvPr/>
        </p:nvGraphicFramePr>
        <p:xfrm>
          <a:off x="3486240" y="5781600"/>
          <a:ext cx="2036520" cy="905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86240" y="5781600"/>
                    <a:ext cx="2036520" cy="9050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Object 10"/>
          <p:cNvGraphicFramePr/>
          <p:nvPr/>
        </p:nvGraphicFramePr>
        <p:xfrm>
          <a:off x="1049400" y="4943520"/>
          <a:ext cx="181620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9400" y="4943520"/>
                    <a:ext cx="1816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1341360"/>
            <a:ext cx="1944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2843280" y="1773360"/>
          <a:ext cx="3378240" cy="66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773360"/>
                    <a:ext cx="337824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1471680" y="3174840"/>
          <a:ext cx="19177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1680" y="3174840"/>
                    <a:ext cx="191772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6089760" y="3067200"/>
          <a:ext cx="17398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9760" y="3067200"/>
                    <a:ext cx="1739880" cy="520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1" name="Object 5"/>
          <p:cNvGraphicFramePr/>
          <p:nvPr/>
        </p:nvGraphicFramePr>
        <p:xfrm>
          <a:off x="1471680" y="4011480"/>
          <a:ext cx="72396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1680" y="4011480"/>
                    <a:ext cx="72396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6089760" y="3986280"/>
          <a:ext cx="1523880" cy="660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89760" y="3986280"/>
                    <a:ext cx="152388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1471680" y="5056200"/>
          <a:ext cx="181620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1680" y="5056200"/>
                    <a:ext cx="1816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3851280" y="5030640"/>
          <a:ext cx="1523880" cy="660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5030640"/>
                    <a:ext cx="1523880" cy="6606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Object 9"/>
          <p:cNvGraphicFramePr/>
          <p:nvPr/>
        </p:nvGraphicFramePr>
        <p:xfrm>
          <a:off x="6089760" y="5126040"/>
          <a:ext cx="977760" cy="469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89760" y="5126040"/>
                    <a:ext cx="977760" cy="469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Object 10"/>
          <p:cNvGraphicFramePr/>
          <p:nvPr/>
        </p:nvGraphicFramePr>
        <p:xfrm>
          <a:off x="3405240" y="5938920"/>
          <a:ext cx="2095560" cy="838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05240" y="5938920"/>
                    <a:ext cx="2095560" cy="8380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Text Box 4"/>
          <p:cNvSpPr/>
          <p:nvPr/>
        </p:nvSpPr>
        <p:spPr>
          <a:xfrm>
            <a:off x="250920" y="620640"/>
            <a:ext cx="8569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The Chain Rule for Differenti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F26-4DFD-4CAA-A36B-51A9C58E0427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0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773360"/>
            <a:ext cx="8424720" cy="3566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13  E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B69-40E2-445A-A2DD-B887558A3EDF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4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3-18T23:30:26Z</dcterms:modified>
  <cp:revision>44</cp:revision>
  <dc:subject/>
  <dc:title>Slide 1</dc:title>
</cp:coreProperties>
</file>